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3FBF-6C53-4385-AFC3-FD88A6F2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CFB-40F1-4043-B492-8A0C444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B21-F138-4C68-833D-7AB4FFC5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3FB-3A09-4024-9C65-CF7EB2BC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7D2-9CCB-4895-BC44-9BF561BA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258-3281-4760-86ED-AA4CF7AD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09C3-A646-4AE9-924E-264AA9C5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76F-CCCA-4213-8FE4-F46132A3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9B9-A047-4534-A993-BD524097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564-F5A8-4A4F-81DC-487AA68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4E56-0A37-444A-975C-1245594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876-76E2-43EC-984B-78A5D68A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5FA-C8C6-4F5E-BD28-D7312B0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98E-0674-40F1-A53F-302E516B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897-ED65-4482-8424-9A46C614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9AF-5531-402B-B44E-C79912F5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2FB-EB07-446B-AE63-5A4FC078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BA1-1372-41B7-ADC2-90F1F6A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E50-0F59-448C-8EAB-B16C929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6B8-3DAB-4B60-B59F-31E0121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A61-7442-4FCF-9636-CC08BB9E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1396-5DC4-4B66-8097-270EFFF2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1E7-213A-4BD7-A184-976A7DD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0A5-A6D1-4789-BCE5-17A93D2C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0255-0916-40B9-A673-8628D31DC9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12085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7209-AB5E-41E4-B7A5-6819066436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азработка программы для классификации приложений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7667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72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мер классификац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39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ыводы по работ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амках курсового проекта была реализована программа, позволяющая классифицировать исполняемые файл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следования эффективности реализованных методов показали, что для разных целевых атрибутов пригодны разные методы (в зависимости от семантики целевого атрибута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72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Методы </a:t>
            </a: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Machine Learning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бучение концептам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строение дерева решен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тод ближайших соседе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ероятностные мето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строение ансамблей классификатор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848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Атрибуты, по которым происходит классификац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Имя файла с расширением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Дата и время изменения (компиляции) файла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Платформа, для которой написан файл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Размер файла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Атрибут: Системны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аличие различных последовательностей в файле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63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Реализованные методы классификац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иск в дереве решений (на основе алгоритм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3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горит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ive Bay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горит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Bayes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ификаци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ive Bayes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учитывающая долю примеров с конкретным значением класса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63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еимущества каждого метод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высокая эффективность при прогнозировании целевых атрибутов, логически зависящих от атрибутов файла, даже на небольшой обучающей выборк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B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сока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орость и эффективность предсказания целевых атрибутов на большой обучающей выборке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B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ая классификация даже нетипичных файлов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Характеристики программ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фикация приложений дл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32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-DOS, Win16, 16bit OS/2, POSI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заданным атрибутам с возможностью выбора одного из трёх метод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ширение возможностей за счёт добавления новых атрибутов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многопользовательской работ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держка многоязычного интерфейс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Атрибуты файлов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27480" y="1905120"/>
            <a:ext cx="3973680" cy="4673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9988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Многоязычный интерфей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астройка целевых атрибутов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626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3T07:21:00Z</dcterms:created>
  <dc:creator>Александр В. Просин</dc:creator>
  <dc:description/>
  <dc:language>en-US</dc:language>
  <cp:lastModifiedBy>Александр В. Просин</cp:lastModifiedBy>
  <dcterms:modified xsi:type="dcterms:W3CDTF">2003-07-01T07:34:09Z</dcterms:modified>
  <cp:revision>14</cp:revision>
  <dc:subject/>
  <dc:title>Разработка программы для классификации приложений</dc:title>
</cp:coreProperties>
</file>